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6.jpeg" ContentType="image/jpeg"/>
  <Override PartName="/ppt/media/image4.png" ContentType="image/png"/>
  <Override PartName="/ppt/media/image12.wmf" ContentType="image/x-wmf"/>
  <Override PartName="/ppt/media/image7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045-F795-476B-8F0B-DEB357B8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7CA-9CAD-4D48-B276-3B94C96F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33B-09E5-4BA7-935A-399C227D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CF5-E595-4E90-B166-1B46BD1D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7BA-4921-4BEA-B9A6-EED0B4D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983-0DC6-4D68-845E-944C8218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857-E8AB-44E4-A9E9-49D0FC86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232-C16B-47C4-94EC-ACCCA585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EFA-B699-4A4B-A270-BE6732A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69A-5AB4-4032-BC5F-B1DA026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949-17C2-4491-BDBC-41C3A5F4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912-4461-4F7E-B7AC-65B8D77C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163F-F39B-4B0B-8930-2A5A7BBCD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.pe/imgres?imgurl=http://www.cesupa.br/superior/imgsup/82_ILUSTRA.jpg&amp;imgrefurl=http://www.cesupa.br/superior/materias.asp%3Fed%3D82%26id%3D169&amp;h=167&amp;w=200&amp;sz=6&amp;hl=es&amp;start=72&amp;tbnid=Wfo019N28vJPqM:&amp;tbnh=87&amp;tbnw=104&amp;prev=/images%3Fq%3DLA%2BCIENCIA%2BAPLICADA%26start%3D63%26svnum%3D10%26hl%3Des%26lr%3D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img292.imageshack.us/img292/3323/pprosaromeroconorganizakv7.jpg&amp;imgrefurl=http://crhoy.blogspot.com/2007_05_01_archive.html&amp;h=1536&amp;w=2048&amp;sz=290&amp;hl=es&amp;start=88&amp;usg=__IgLnma1aBhqGDyuqqCJm9HpIKk8=&amp;tbnid=zhcw9MolKBUd0M:&amp;tbnh=113&amp;tbnw=150&amp;prev=/images%3Fq%3DENFOQUE%2BPOR%2BCOMPETENCIAS%26start%3D80%26imgsz%3Dhuge%26gbv%3D2%26ndsp%3D20%26hl%3Des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eee.uach.cl/ninguno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pe/imgres?imgurl=http://www.dodec.net/pics/bhomme.jpg&amp;imgrefurl=http://www.dodec.net/dodecesp.htm&amp;h=293&amp;w=204&amp;sz=18&amp;hl=es&amp;start=5&amp;tbnid=a8Cl6nj6pXQQpM:&amp;tbnh=115&amp;tbnw=80&amp;prev=/images%3Fq%3DINDUSTRIAS%2BMEC%25C3%2581NICA%26svnum%3D10%26hl%3Des%26lr%3D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XPERIENCIAS DEL SEN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N LA FORMACIÓN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OR COMPET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g.  MANUEL CANALES DEL 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3500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700280"/>
            <a:ext cx="2448000" cy="3024000"/>
          </a:xfrm>
          <a:prstGeom prst="rect">
            <a:avLst/>
          </a:prstGeom>
          <a:solidFill>
            <a:srgbClr val="ffe5fe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80"/>
                </a:solidFill>
                <a:uFillTx/>
                <a:latin typeface="Arial"/>
              </a:rPr>
              <a:t>SE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80"/>
                </a:solidFill>
                <a:uFillTx/>
                <a:latin typeface="Arial"/>
              </a:rPr>
              <a:t>PRODUCTIVOS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Sector Mod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Sector 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Sector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pequeña  y mic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2492280"/>
            <a:ext cx="2305080" cy="2521080"/>
          </a:xfrm>
          <a:prstGeom prst="rect">
            <a:avLst/>
          </a:prstGeom>
          <a:solidFill>
            <a:srgbClr val="ffe5fe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80"/>
                </a:solidFill>
                <a:uFillTx/>
                <a:latin typeface="Arial"/>
              </a:rPr>
              <a:t>SEC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80"/>
                </a:solidFill>
                <a:uFillTx/>
                <a:latin typeface="Arial"/>
              </a:rPr>
              <a:t>SOCIALES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mpr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rabaj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Gobiernos loc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y reg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484280"/>
            <a:ext cx="273528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TIDAD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FE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3573360"/>
            <a:ext cx="3097080" cy="1440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5734080"/>
            <a:ext cx="4680000" cy="77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ERTA DE 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292428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508464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48360" y="5157720"/>
            <a:ext cx="1081080" cy="1224000"/>
          </a:xfrm>
          <a:custGeom>
            <a:avLst/>
            <a:gdLst>
              <a:gd name="textAreaLeft" fmla="*/ 270360 w 1081080"/>
              <a:gd name="textAreaRight" fmla="*/ 927360 w 1081080"/>
              <a:gd name="textAreaTop" fmla="*/ 703800 h 1224000"/>
              <a:gd name="textAreaBottom" fmla="*/ 10497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494"/>
                </a:moveTo>
                <a:lnTo>
                  <a:pt x="12417" y="15494"/>
                </a:lnTo>
                <a:lnTo>
                  <a:pt x="12417" y="5407"/>
                </a:lnTo>
                <a:lnTo>
                  <a:pt x="9340" y="5407"/>
                </a:lnTo>
                <a:lnTo>
                  <a:pt x="15470" y="0"/>
                </a:lnTo>
                <a:lnTo>
                  <a:pt x="21600" y="5407"/>
                </a:lnTo>
                <a:lnTo>
                  <a:pt x="18523" y="5407"/>
                </a:lnTo>
                <a:lnTo>
                  <a:pt x="18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rot="21531000">
            <a:off x="755280" y="4797000"/>
            <a:ext cx="1150920" cy="1438200"/>
          </a:xfrm>
          <a:custGeom>
            <a:avLst/>
            <a:gdLst>
              <a:gd name="textAreaLeft" fmla="*/ 208440 w 1150920"/>
              <a:gd name="textAreaRight" fmla="*/ 951480 w 1150920"/>
              <a:gd name="textAreaTop" fmla="*/ 835560 h 1438200"/>
              <a:gd name="textAreaBottom" fmla="*/ 118944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16284"/>
                </a:moveTo>
                <a:lnTo>
                  <a:pt x="12547" y="16284"/>
                </a:lnTo>
                <a:lnTo>
                  <a:pt x="12547" y="3922"/>
                </a:lnTo>
                <a:lnTo>
                  <a:pt x="8810" y="3922"/>
                </a:lnTo>
                <a:lnTo>
                  <a:pt x="15205" y="0"/>
                </a:lnTo>
                <a:lnTo>
                  <a:pt x="21600" y="3922"/>
                </a:lnTo>
                <a:lnTo>
                  <a:pt x="17863" y="3922"/>
                </a:lnTo>
                <a:lnTo>
                  <a:pt x="178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3346800">
            <a:off x="5597280" y="2763720"/>
            <a:ext cx="576360" cy="1185840"/>
          </a:xfrm>
          <a:prstGeom prst="downArrow">
            <a:avLst>
              <a:gd name="adj1" fmla="val 50000"/>
              <a:gd name="adj2" fmla="val 514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332800">
            <a:off x="2615760" y="3139560"/>
            <a:ext cx="1040040" cy="623880"/>
          </a:xfrm>
          <a:prstGeom prst="rightArrow">
            <a:avLst>
              <a:gd name="adj1" fmla="val 50000"/>
              <a:gd name="adj2" fmla="val 4167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solidFill>
            <a:srgbClr val="f4e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  DETERMINACIÓN DE NECESIDADES DE FORMACIÓN Y CAPACITACIÓN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91360" y="1403280"/>
            <a:ext cx="2448000" cy="576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NTIDADE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VESTIG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24080" y="1773360"/>
            <a:ext cx="576360" cy="215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260280"/>
            <a:ext cx="8207280" cy="550800"/>
          </a:xfrm>
          <a:prstGeom prst="rect">
            <a:avLst/>
          </a:prstGeom>
          <a:solidFill>
            <a:srgbClr val="f6ee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80"/>
                </a:solidFill>
                <a:latin typeface="Arial"/>
              </a:rPr>
              <a:t>INTERROGANTES FORMULAD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923760"/>
            <a:ext cx="6048360" cy="597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¿ Cómo atender la demanda diversificad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¿ Cómo ofertar las necesidades de formación de los distintos niveles de desarrollo tecnológic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¿ Cómo obtener información que permita ajustar la oferta a la marcha de las transformaciones de la actividad productiv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¿ Cuáles son las principales fuentes de información sobre el mercado de trabajo al alcance de las Instituciones de Formación Profesion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2220840" cy="2492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70028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125280"/>
            <a:ext cx="8064720" cy="581400"/>
          </a:xfrm>
          <a:prstGeom prst="rect">
            <a:avLst/>
          </a:prstGeom>
          <a:solidFill>
            <a:srgbClr val="ffe5fe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FUENTES DE INFORM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765000"/>
            <a:ext cx="8569440" cy="5945400"/>
          </a:xfrm>
          <a:prstGeom prst="rect">
            <a:avLst/>
          </a:prstGeom>
          <a:solidFill>
            <a:srgbClr val="f6f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.- Diagnóstico por Actividades Económicas. (expectativas de la dema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Empresas de Producción: Grandes, Medianas, Pequeñas y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Gremios Empresa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ámaras de Comercio e Indust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Minis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sociaciones de M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2.- Demand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Gobiernos Reg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Gobierno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Organismos Públicos y 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Egresados de Colegios Secund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588000" y="4724280"/>
            <a:ext cx="223200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735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404640"/>
            <a:ext cx="8280360" cy="1007640"/>
          </a:xfrm>
          <a:prstGeom prst="rect">
            <a:avLst/>
          </a:prstGeom>
          <a:solidFill>
            <a:srgbClr val="ffe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PUNTOS CLAVE PARA FLEXIBILIZAR LA OFERTA DE LA  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844640"/>
            <a:ext cx="6913440" cy="4377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74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Oportuna identificación de la   información del Mercado de Trabajo y las necesidades de calificación de los usu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74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Respuesta focalizada hacia la realización de las necesidades detec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74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Concertación con los sectores económicos y 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40000"/>
            <a:ext cx="2700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85080" y="620640"/>
            <a:ext cx="215892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620640"/>
            <a:ext cx="6480000" cy="12456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NECESIDADES DE FORMACIÓN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CAPA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989000"/>
            <a:ext cx="6697440" cy="4412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.-  Necesidades de Formació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icial (Carreras nue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.-  Necesidades de Formació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lementaria o   Capaci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.-  Necesidades de reconver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fe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3429000"/>
            <a:ext cx="2124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e1e2b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000000"/>
                </a:solidFill>
                <a:latin typeface="Arial"/>
              </a:rPr>
              <a:t>II. PERFIL PROF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mos el Perfil Profesional como la descripción de las funciones, las competencias profesionales, las áreas de responsabilidad y tareas de la profesión o carrera / ocupación; además de un listado que incluye los conocimientos, las habilidades, conductas, actitudes, equipos, máquinas, herramientas y materiales necesarios para realizar las t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Perfil Profesional no puede estar estático; es actualizada y revisada ni bien concluye la primera promoción del nuevo perfil. Es anticipativa a las nuevas necesidades del mercado y a las tecnolog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EL NUEVO PERFIL PROFES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580600" cy="554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yor responsabilidad y aut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beres pluridisciplinares y conocimientos generales transvers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livalencia o ampliación del campo de acción indiv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eciente comunicación interdisciplinarias con priorización de las tareas de coordinación y ani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plicación de las capacidades en situaciones concretas y evoluti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strucción de su propio derrotero labo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pacidad de identificar y valorar su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eeee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 cambios en el mundo del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09320" y="1108080"/>
            <a:ext cx="8042400" cy="5339880"/>
            <a:chOff x="409320" y="1108080"/>
            <a:chExt cx="8042400" cy="5339880"/>
          </a:xfrm>
        </p:grpSpPr>
        <p:sp>
          <p:nvSpPr>
            <p:cNvPr id="89" name="_s120837"/>
            <p:cNvSpPr/>
            <p:nvPr/>
          </p:nvSpPr>
          <p:spPr>
            <a:xfrm flipH="1">
              <a:off x="2415960" y="377712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20838"/>
            <p:cNvSpPr/>
            <p:nvPr/>
          </p:nvSpPr>
          <p:spPr>
            <a:xfrm>
              <a:off x="409320" y="3110760"/>
              <a:ext cx="2009520" cy="13341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20839"/>
            <p:cNvSpPr/>
            <p:nvPr/>
          </p:nvSpPr>
          <p:spPr>
            <a:xfrm>
              <a:off x="4429080" y="4443120"/>
              <a:ext cx="0" cy="67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20840"/>
            <p:cNvSpPr/>
            <p:nvPr/>
          </p:nvSpPr>
          <p:spPr>
            <a:xfrm>
              <a:off x="3425760" y="5113800"/>
              <a:ext cx="2009520" cy="13341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ecn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20841"/>
            <p:cNvSpPr/>
            <p:nvPr/>
          </p:nvSpPr>
          <p:spPr>
            <a:xfrm>
              <a:off x="5432400" y="377712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20842"/>
            <p:cNvSpPr/>
            <p:nvPr/>
          </p:nvSpPr>
          <p:spPr>
            <a:xfrm>
              <a:off x="6442200" y="3110760"/>
              <a:ext cx="2009520" cy="13341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l 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20843"/>
            <p:cNvSpPr/>
            <p:nvPr/>
          </p:nvSpPr>
          <p:spPr>
            <a:xfrm flipV="1">
              <a:off x="4429080" y="2439720"/>
              <a:ext cx="0" cy="67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20844"/>
            <p:cNvSpPr/>
            <p:nvPr/>
          </p:nvSpPr>
          <p:spPr>
            <a:xfrm>
              <a:off x="3425760" y="1108080"/>
              <a:ext cx="2009520" cy="13341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20845"/>
            <p:cNvSpPr/>
            <p:nvPr/>
          </p:nvSpPr>
          <p:spPr>
            <a:xfrm>
              <a:off x="3425760" y="3110760"/>
              <a:ext cx="2009520" cy="13341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amb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7240" y="1741320"/>
              <a:ext cx="2685600" cy="100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613" y="2445"/>
                  </a:moveTo>
                  <a:lnTo>
                    <a:pt x="-1609" y="2445"/>
                  </a:lnTo>
                  <a:lnTo>
                    <a:pt x="-1609" y="16132"/>
                  </a:lnTo>
                  <a:lnTo>
                    <a:pt x="-574" y="34064"/>
                  </a:lnTo>
                </a:path>
                <a:path w="21600" h="21600">
                  <a:moveTo>
                    <a:pt x="-613" y="0"/>
                  </a:moveTo>
                  <a:lnTo>
                    <a:pt x="-613" y="21600"/>
                  </a:lnTo>
                </a:path>
              </a:pathLst>
            </a:custGeom>
            <a:solidFill>
              <a:srgbClr val="bbe0e3"/>
            </a:solidFill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buClr>
                  <a:srgbClr val="3333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</a:rPr>
                <a:t>Conciencia Ecológ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</a:rPr>
                <a:t>Espíritu de auto-realiz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</a:rPr>
                <a:t>Conciencia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796000" y="1260360"/>
            <a:ext cx="3348000" cy="137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24" y="1794"/>
                </a:moveTo>
                <a:lnTo>
                  <a:pt x="-492" y="1794"/>
                </a:lnTo>
              </a:path>
              <a:path w="21600" h="21600">
                <a:moveTo>
                  <a:pt x="-492" y="0"/>
                </a:moveTo>
                <a:lnTo>
                  <a:pt x="-492" y="21600"/>
                </a:lnTo>
              </a:path>
            </a:pathLst>
          </a:custGeom>
          <a:solidFill>
            <a:srgbClr val="edede3"/>
          </a:solidFill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ercados inter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Alta competencia interna y ex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dominio del sector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rientación hacia 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5084640"/>
            <a:ext cx="2305080" cy="11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14" y="2142"/>
                </a:moveTo>
                <a:lnTo>
                  <a:pt x="-2945" y="2142"/>
                </a:lnTo>
                <a:lnTo>
                  <a:pt x="-2945" y="-8598"/>
                </a:lnTo>
                <a:lnTo>
                  <a:pt x="1607" y="-16066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ccff99"/>
          </a:solidFill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rabajo en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gración de t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Auto-respons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Dirección particip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869000"/>
            <a:ext cx="3276720" cy="11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592" y="4255"/>
                </a:moveTo>
                <a:lnTo>
                  <a:pt x="22102" y="2142"/>
                </a:lnTo>
              </a:path>
              <a:path w="21600" h="21600">
                <a:moveTo>
                  <a:pt x="22102" y="0"/>
                </a:moveTo>
                <a:lnTo>
                  <a:pt x="22102" y="21600"/>
                </a:lnTo>
              </a:path>
            </a:pathLst>
          </a:custGeom>
          <a:solidFill>
            <a:srgbClr val="cfd7c7"/>
          </a:solidFill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Breves ciclo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Breves ciclos de vida de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ocesos de producción automati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stemas complejos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El trabajador actual tiene que ser capaz d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181720" cy="453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Planificar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de forma autónoma su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por sí mismo la calidad de su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Participar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en los procesos de gest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Trabajar en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equipo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Perfeccionarse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constantemente por propia inici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Elabora el SENATI el Perfil Profesi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solidFill>
            <a:srgbClr val="ecfbf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ller de Análisis Ocupacional Participativo (AOP) o Taller DAC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ción de técnicos especialistas de las empresas (Comité Consultivo de Empleadores), que dominan los aspectos prácticos, tecnológicos, normatividad técnica, de seguridad y ambientales de la carr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ción de un Facilitador, especialista en las técnicas DAC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Matriz Ocupacional de la Carr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EMPLEABILIDAD DE LOS EGRESADOS DEL SENATI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884240"/>
            <a:ext cx="83516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 identifican las Áreas de Responsabilidad (Funcionales) de la Profe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 obtienen las tareas con prec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 diferencian los comportamientos y las actitudes laborales importantes del profe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mite determinar las habilidades y conocimientos  gene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 determinan las máquinas, equipos, herramienta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strumentos y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-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 proyecta las tendencias profesionales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-   Se determina los tiempos, responsabilidades y/o las funciones de la profesió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081080"/>
          </a:xfrm>
          <a:prstGeom prst="rect">
            <a:avLst/>
          </a:prstGeom>
          <a:solidFill>
            <a:srgbClr val="c5fbff"/>
          </a:solidFill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Importantes de un Taller DAC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353440" cy="922320"/>
          </a:xfrm>
          <a:prstGeom prst="rect">
            <a:avLst/>
          </a:prstGeom>
          <a:solidFill>
            <a:srgbClr val="d6f4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Perfil de Competencias Profes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tructu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nominación de la Carr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cripción de la Carr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mpetencias Profesion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etencias Técnicas: Capacidades prácticas específicas de la prof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etencia Metódica: Capacidades para el dominio de situaciones y solución de proble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etencia Personal Social: Capacidades para actuar de forma autónoma e interdepe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Áreas de Responsabilidades y T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Lista de las Unidades Ocupacionales (basada en la Matriz Ocupacional), con tareas ordenadas secuencia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edios Didácticos (Infraestructura, Docentes, Equi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ptitudes físicas, psicológicas y cualidades personales neces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torno Laboral: Campo de acción o mercado ocupacional de desarrollo profesional del egre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solidFill>
            <a:srgbClr val="e6e7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Arial"/>
              </a:rPr>
              <a:t>VI. MEDICIÓN, ANÁLISIS y MEJORA CONTIN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solidFill>
            <a:srgbClr val="a0f3f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Sistema de Gestión de la Calidad (ISO 9001) exige que la Organización Certificada debe planificar e implementar los procesos de seguimiento, medición, análisis y mejora, par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mostrar la conformidad del produ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Asegurarse de la conformidad del sistema de gestión de la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Lograr una mejora continua de la eficacia del sistema de gestión de la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VALUACIÓN DE LA SATISFACCIÓN DEL CLI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5158080"/>
          </a:xfrm>
          <a:prstGeom prst="rect">
            <a:avLst/>
          </a:prstGeom>
          <a:solidFill>
            <a:srgbClr val="d5f7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UESTA DE OPINIÓN DEL ALUMNO SOBRE LA CAPACITACIÓN RECIB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icidad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mes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licació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ía Intranet-SENA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r la eficacia de los medios didácticos y metodología pedagógica que emplea el SENATI para desarrollar los Programas de Formación Profesion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93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13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3399ff"/>
                </a:solidFill>
                <a:uFillTx/>
                <a:latin typeface="Arial"/>
              </a:rPr>
              <a:t>OBJETIVO DEL SISTEMA DE GESTIÓN</a:t>
            </a:r>
            <a:br>
              <a:rPr sz="25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rar el 82% en la Opinión de los Alumnos sobre la Formación y Capacitación Recibida del Acumulado “Alto + Muy Al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VALUACIÓN DE LA SATISFACCIÓN DEL CLI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5158080"/>
          </a:xfrm>
          <a:prstGeom prst="rect">
            <a:avLst/>
          </a:prstGeom>
          <a:solidFill>
            <a:srgbClr val="d6f4f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UESTA DE OPINIÓN DEL EMPRESARIO INDUSTRIAL SOBRE EL DESEMPEÑO LABORAL DE LOS EGRESADOS DEL SE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icidad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licació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trevist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dir el impacto de la Formación Profesional en los Egresados del SENATI, traducido en una eficiencia laboral dentro de la empresa industrial y conocer el grado de satisfacción de los clie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EMPLEABILIDAD DE LOS EGRESADOS DEL SENATI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9144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VALUACIÓN DE LA SATISFACCIÓN DEL CLI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5158080"/>
          </a:xfrm>
          <a:prstGeom prst="rect">
            <a:avLst/>
          </a:prstGeom>
          <a:solidFill>
            <a:srgbClr val="d6f4f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UESTA DE SEGUIMIENTO A LOS EGRESADOS DEL SE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icidad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licación: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revista direc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ía Intranet-SENA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dir el impacto de la Formación Profesional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 los Egresad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Evaluar el grado de inserción y condición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boral de los egresad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Evaluar las expectativas de capacitación y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tualización  tecnológica de los egresad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EMPLEABILIDAD DE LOS EGRESADOS DEL SENATI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884240"/>
            <a:ext cx="83516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EMPLEABILIDAD DE LOS EGRESADOS DEL SENATI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9144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93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00000" y="2421000"/>
            <a:ext cx="763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Muchas gracia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2493720" y="4869000"/>
            <a:ext cx="4243680" cy="520560"/>
          </a:xfrm>
          <a:prstGeom prst="rect">
            <a:avLst/>
          </a:prstGeom>
          <a:noFill/>
          <a:ln w="9360">
            <a:solidFill>
              <a:srgbClr val="d208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d20833"/>
                </a:solidFill>
                <a:latin typeface="Arial"/>
              </a:rPr>
              <a:t>rcanales@senati.edu.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ATI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icio Nacional de Adiestramiento en Trabajo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5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5320"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000000"/>
                </a:solidFill>
                <a:latin typeface="Arial"/>
              </a:rPr>
              <a:t>El SENATI, es una Institución de Formación y Capacitación Profesional, creada en 1961 a iniciativa de los empresarios industriales, quienes propusieron la ley de creación del SENATI, autoimponiéndose el pago de una contribución económica mensua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SENATI cumple con la misión de diseñar y desarrollar programas de formación profesional, acordes con las demandas de calificación del mercado laboral de las diferentes actividades económicas; por lo que sus egresados cuentan con una alta empleabilidad, contribuyendo en la productividad y competitividad de las empresas donde labora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SENATI, a partir del año 2000 ha obtenido las siguiente certificaciones en las Normas de Gestión de la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ganización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ternacional de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andarización (ISO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ISO 9001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: Gestión de Calid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ISO 14001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: Gestión Ambien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OHSAS 18001 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: Gestión de Seguridad y 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  Salud Ocupacion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s certificaciones lo ubica a la vanguardia a nivel latinoamericano, en las aplicaciones de estándares internacionales en la gestión de sus servicios, orientados a la satisfacción del cliente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 SENATI tiene cobertura nacional, con 45 Centros de Formación Profesional (por lo menos con un Centro en cada departamento del país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s Centros están dotados con equipamiento moderno y ambientes adecuados. Los talleres están organizados de modo que permitan aprender en condiciones similares a  la producció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a el aprendizaje práctico dentro de las empresas, cuenta con más de 8000 empresas que participan Patrocinando Aprendices y/o por Convenio de Cooperación Mutua SENATI-Empresa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545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08000"/>
          </a:xfrm>
          <a:prstGeom prst="rect">
            <a:avLst/>
          </a:prstGeom>
          <a:solidFill>
            <a:srgbClr val="bce2d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CESOS FUNDAMENTALES DE LA FORMACIÓN PROFESIONAL QUE DESARROLLA EL SENATI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solidFill>
            <a:srgbClr val="efeeb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ción de Necesidades de Formación y Capacitación Profesional: Estudio de Mercado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ción de Perfiles Profesionale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ño Curricu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de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tación de Servicios de Formación y Capacitación Profe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ción de Satisfacción del Client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*): Temas que serán desarrol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4:02:59Z</dcterms:created>
  <dc:creator>RCanales</dc:creator>
  <dc:description/>
  <dc:language>en-US</dc:language>
  <cp:lastModifiedBy>rcanales</cp:lastModifiedBy>
  <dcterms:modified xsi:type="dcterms:W3CDTF">2009-12-02T22:21:08Z</dcterms:modified>
  <cp:revision>50</cp:revision>
  <dc:subject/>
  <dc:title>Diapositiva 1</dc:title>
</cp:coreProperties>
</file>