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gif" ContentType="image/gif"/>
  <Override PartName="/ppt/media/image6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4.jpeg" ContentType="image/jpeg"/>
  <Override PartName="/ppt/media/image15.png" ContentType="image/png"/>
  <Override PartName="/ppt/media/image3.gif" ContentType="image/gi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8F0-B6AF-47CF-B52B-1C6A46CA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C58-CB58-4F23-B3A5-56AADC4C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C14-BD3B-4CD4-9014-1B33F974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931-127C-41AD-A3EF-C14938DF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2DE-9DDB-48DE-8121-A968EB8C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42C-159D-4F2A-8589-B5E3FFC9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DC4-E5CC-4B1D-9164-E9BFD221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B80-02E0-4287-A327-610E442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2B8-718C-4CFB-BD52-70CF664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71C-C43C-4AD2-8E7C-52899571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B51-CCA4-41FE-B694-4B4F63E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406-131A-43F3-A3DD-7508103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4524-8806-4B5E-B132-063D377DAB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4560" y="285480"/>
            <a:ext cx="417492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ADÍSTICA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MO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ERRAMIENTA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A LA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ESTION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ANI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9109080" y="5373720"/>
            <a:ext cx="6984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824360" y="6669000"/>
            <a:ext cx="435600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0 Imagen" descr="Dibujo doctor.bmp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Sanit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5041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Arial"/>
              </a:rPr>
              <a:t>A medida que la Gestión Sanitaria se ha ido convirtiendo en una auténtica profesión y que se va entendiendo la importancia de la calificación profesional de los gestores para que el Sistema de Salud funcione correctamente, </a:t>
            </a:r>
            <a:r>
              <a:rPr b="1" i="1" lang="es-PE" sz="3000" spc="-1" strike="noStrike" u="sng">
                <a:solidFill>
                  <a:srgbClr val="000000"/>
                </a:solidFill>
                <a:uFillTx/>
                <a:latin typeface="Arial"/>
              </a:rPr>
              <a:t>se van estructurando los genuinos instrumentos de medida de la rentabilidad social busca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302953"/>
          <p:cNvPicPr/>
          <p:nvPr/>
        </p:nvPicPr>
        <p:blipFill>
          <a:blip r:embed="rId1"/>
          <a:stretch/>
        </p:blipFill>
        <p:spPr>
          <a:xfrm>
            <a:off x="5429160" y="1341360"/>
            <a:ext cx="3390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La Gestión Sanitaria como proceso de Dirección Estratégica, Análisis, formulación e implantación de estrategias en las Instituciones sanitarias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4720" y="1988640"/>
            <a:ext cx="4643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Actualmente, Funcionarios, Gerentes y Profesionales son más exigidos a justificar sus decisiones basándose en la información proporcionada por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Necesitan sistemas de soporte de decisiones basadas en modelos Estadíst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1"/>
          <p:cNvGrpSpPr/>
          <p:nvPr/>
        </p:nvGrpSpPr>
        <p:grpSpPr>
          <a:xfrm>
            <a:off x="539640" y="1689120"/>
            <a:ext cx="4346640" cy="4979880"/>
            <a:chOff x="539640" y="1689120"/>
            <a:chExt cx="4346640" cy="4979880"/>
          </a:xfrm>
        </p:grpSpPr>
        <p:pic>
          <p:nvPicPr>
            <p:cNvPr id="82" name="Picture 10" descr="MCj02953530000[1]"/>
            <p:cNvPicPr/>
            <p:nvPr/>
          </p:nvPicPr>
          <p:blipFill>
            <a:blip r:embed="rId1"/>
            <a:stretch/>
          </p:blipFill>
          <p:spPr>
            <a:xfrm>
              <a:off x="2484360" y="4210200"/>
              <a:ext cx="2401920" cy="24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1" descr="MCj03352160000[1]"/>
            <p:cNvPicPr/>
            <p:nvPr/>
          </p:nvPicPr>
          <p:blipFill>
            <a:blip r:embed="rId2"/>
            <a:stretch/>
          </p:blipFill>
          <p:spPr>
            <a:xfrm>
              <a:off x="539640" y="4281480"/>
              <a:ext cx="187164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6" descr=""/>
            <p:cNvPicPr/>
            <p:nvPr/>
          </p:nvPicPr>
          <p:blipFill>
            <a:blip r:embed="rId3"/>
            <a:stretch/>
          </p:blipFill>
          <p:spPr>
            <a:xfrm>
              <a:off x="611280" y="1689120"/>
              <a:ext cx="36003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plicación de la Estadística en la Gestión Sani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460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Estadística aplicada al sector sanitario: Análisis de curvas de supervivencia (Segur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Implementación de sistemas de información sanitaria para la evaluación de productos y cos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5076720" y="2162160"/>
            <a:ext cx="3384360" cy="3787560"/>
            <a:chOff x="5076720" y="2162160"/>
            <a:chExt cx="3384360" cy="3787560"/>
          </a:xfrm>
        </p:grpSpPr>
        <p:pic>
          <p:nvPicPr>
            <p:cNvPr id="88" name="Picture 4" descr="bd20147_"/>
            <p:cNvPicPr/>
            <p:nvPr/>
          </p:nvPicPr>
          <p:blipFill>
            <a:blip r:embed="rId1"/>
            <a:stretch/>
          </p:blipFill>
          <p:spPr>
            <a:xfrm>
              <a:off x="5078880" y="2162160"/>
              <a:ext cx="329364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bd20126_"/>
            <p:cNvPicPr/>
            <p:nvPr/>
          </p:nvPicPr>
          <p:blipFill>
            <a:blip r:embed="rId2"/>
            <a:stretch/>
          </p:blipFill>
          <p:spPr>
            <a:xfrm>
              <a:off x="5076720" y="4021200"/>
              <a:ext cx="3384360" cy="192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Indicadores para apoyar la toma de decisione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s instituciones encargadas del planeamiento y ejecución de la política sectori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necesitan introducir mecanismos de evaluación del trabajo en todos los órganos públ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93844"/>
          <p:cNvPicPr/>
          <p:nvPr/>
        </p:nvPicPr>
        <p:blipFill>
          <a:blip r:embed="rId1"/>
          <a:stretch/>
        </p:blipFill>
        <p:spPr>
          <a:xfrm>
            <a:off x="4500720" y="1700280"/>
            <a:ext cx="39049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1332000" y="189000"/>
            <a:ext cx="2303280" cy="50472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995640" y="4076640"/>
            <a:ext cx="2448000" cy="57636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268360" y="4149720"/>
            <a:ext cx="1944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8900000"/>
          </a:gra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084720" y="3502080"/>
            <a:ext cx="2159280" cy="64764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ACUER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DE GESTION</a:t>
            </a:r>
            <a:r>
              <a:rPr b="1" lang="es-MX" sz="1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995640" y="1989000"/>
            <a:ext cx="3745080" cy="5032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TARIF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995640" y="2494080"/>
            <a:ext cx="4105440" cy="5032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REEMBOLSOS DE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132000" y="549360"/>
            <a:ext cx="4464360" cy="79200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PRODUCCION, PRODUCTIV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348000" y="1266840"/>
            <a:ext cx="4319640" cy="79380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PPTO, INGRESOS, COS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EXON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979640" y="1844640"/>
            <a:ext cx="194472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8900000"/>
          </a:gra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INV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8388360" y="189000"/>
            <a:ext cx="504720" cy="64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700000"/>
          </a:gra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2268360" y="5013360"/>
            <a:ext cx="460872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ON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TOMA DE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692360" y="2421000"/>
            <a:ext cx="244944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8900000"/>
          </a:gra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50920" y="189000"/>
            <a:ext cx="504720" cy="64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700000"/>
          </a:gra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403280" y="1268280"/>
            <a:ext cx="1944720" cy="57636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CO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4140360" y="2997360"/>
            <a:ext cx="3960720" cy="50292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AUDITORIA EN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050920" y="2997360"/>
            <a:ext cx="2160720" cy="57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8900000"/>
          </a:gra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4211640" y="3502080"/>
            <a:ext cx="1944720" cy="57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8900000"/>
          </a:gra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CONVEN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2411280" y="3573360"/>
            <a:ext cx="1944720" cy="57636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6227640" y="4149720"/>
            <a:ext cx="2089440" cy="5032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INTER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1042920" y="692280"/>
            <a:ext cx="2160720" cy="57600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Arial"/>
                <a:ea typeface="Arial"/>
              </a:rPr>
              <a:t>EPIDEMI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tos de la Estadística en la gestión de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información estadística  para una administración descentr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informacion estadística para el aseguramiento uni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información bajo un gobiern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93844"/>
          <p:cNvPicPr/>
          <p:nvPr/>
        </p:nvPicPr>
        <p:blipFill>
          <a:blip r:embed="rId1"/>
          <a:stretch/>
        </p:blipFill>
        <p:spPr>
          <a:xfrm>
            <a:off x="7167600" y="4781520"/>
            <a:ext cx="19764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sideración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485720"/>
            <a:ext cx="453708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ara que todo lo mencionado tenga una razón de ser, La información estadística debe ser Oportuna y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Sin ninguna de estas características no se podrá tomar una decisión adecuada a los problemas que se dan en la realidad, por lo tanto no se podrá realizar una buena Gestión Sani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301252"/>
          <p:cNvPicPr/>
          <p:nvPr/>
        </p:nvPicPr>
        <p:blipFill>
          <a:blip r:embed="rId1"/>
          <a:stretch/>
        </p:blipFill>
        <p:spPr>
          <a:xfrm>
            <a:off x="4570560" y="2276640"/>
            <a:ext cx="43941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tos de la Estadística en la gestión de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información estadística  para una administración descentr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informacion estadística para el aseguramiento uni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información bajo un gobiern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j0293844"/>
          <p:cNvPicPr/>
          <p:nvPr/>
        </p:nvPicPr>
        <p:blipFill>
          <a:blip r:embed="rId1"/>
          <a:stretch/>
        </p:blipFill>
        <p:spPr>
          <a:xfrm>
            <a:off x="7167600" y="4781520"/>
            <a:ext cx="19764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5796000" y="371628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Verdana"/>
              </a:rPr>
              <a:t>Pres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>
            <a:off x="3000240" y="2786040"/>
            <a:ext cx="230364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raci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643280" y="4000680"/>
            <a:ext cx="136872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3889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Estadística y La toma de Deci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47640" y="835200"/>
            <a:ext cx="4861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ística, rama de las matemáticas que se ocupa de reunir, organizar y analizar datos numéricos y que ayuda a resolver problemas como el diseño de experimentos y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étodo efectivo para describir con exactitud los valores de datos económicos, políticos, sociales, psicológicos, biológicos y físicos; sirve como herramienta para relacionar y analizar dich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MCj03518730000[1]"/>
          <p:cNvPicPr/>
          <p:nvPr/>
        </p:nvPicPr>
        <p:blipFill>
          <a:blip r:embed="rId1"/>
          <a:stretch/>
        </p:blipFill>
        <p:spPr>
          <a:xfrm>
            <a:off x="250920" y="3068640"/>
            <a:ext cx="374472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Estadí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771560"/>
            <a:ext cx="3961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trabajo del experto estadístico no sólo consiste en reunir y tabular los datos, sino sobre todo en el proceso de interpretación de esa inform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Mj02840010000[1]"/>
          <p:cNvPicPr/>
          <p:nvPr/>
        </p:nvPicPr>
        <p:blipFill>
          <a:blip r:embed="rId1"/>
          <a:stretch/>
        </p:blipFill>
        <p:spPr>
          <a:xfrm>
            <a:off x="4140360" y="2073240"/>
            <a:ext cx="46083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sarrollo de Habilidades Estadísticas para la Gestión Sani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4932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s habilidades estadísticas le permiten recolectar, analizar e interpretar inteligentemente, los datos relevantes en la toma de deci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n este contexto, los conceptos estadísticos y el razonamiento estadístico 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Solucionar problemas en una diversidad de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Agregar soporte a las deci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Reducir el trabajo de adivinar.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040360" y="2492280"/>
            <a:ext cx="39243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rrollo de Habilidades Estadísticas para la gestión Sa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114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Fomentar el razonamiento estadístico en los Funcionarios, los cuales en muchos casos deben tomar decisiones con escas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ben generar métodos de mejoramiento continuo e ilimitado en todas las etapas de los procesos de producción y servicio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j0335524"/>
          <p:cNvPicPr/>
          <p:nvPr/>
        </p:nvPicPr>
        <p:blipFill>
          <a:blip r:embed="rId1"/>
          <a:stretch/>
        </p:blipFill>
        <p:spPr>
          <a:xfrm>
            <a:off x="5184720" y="1989000"/>
            <a:ext cx="38512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Sanit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3640" y="1484280"/>
            <a:ext cx="543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ficiencia en el uso de l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Optimizar el gasto en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Optimizar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Incrementar produ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sta observación obliga a introducir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onceptos económicos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tales como rentabilidad, costo y beneficio, asignación equitativa de recursos sanitario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Necesidades y recursos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e esta manera se hace la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Gestión Sani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108000" y="1773360"/>
            <a:ext cx="3600000" cy="3815640"/>
            <a:chOff x="108000" y="1773360"/>
            <a:chExt cx="3600000" cy="3815640"/>
          </a:xfrm>
        </p:grpSpPr>
        <p:pic>
          <p:nvPicPr>
            <p:cNvPr id="60" name="Picture 11" descr="MCj02317240000[1]"/>
            <p:cNvPicPr/>
            <p:nvPr/>
          </p:nvPicPr>
          <p:blipFill>
            <a:blip r:embed="rId1"/>
            <a:stretch/>
          </p:blipFill>
          <p:spPr>
            <a:xfrm>
              <a:off x="925920" y="1773360"/>
              <a:ext cx="2044800" cy="19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MCj01981930000[1]"/>
            <p:cNvPicPr/>
            <p:nvPr/>
          </p:nvPicPr>
          <p:blipFill>
            <a:blip r:embed="rId2"/>
            <a:stretch/>
          </p:blipFill>
          <p:spPr>
            <a:xfrm>
              <a:off x="1949400" y="3249720"/>
              <a:ext cx="1758600" cy="22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3" descr="MCj02868640000[1]"/>
            <p:cNvPicPr/>
            <p:nvPr/>
          </p:nvPicPr>
          <p:blipFill>
            <a:blip r:embed="rId3"/>
            <a:stretch/>
          </p:blipFill>
          <p:spPr>
            <a:xfrm>
              <a:off x="108000" y="3249720"/>
              <a:ext cx="1942920" cy="233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Arial"/>
              </a:rPr>
              <a:t>LOS CONOCIMIENTOS ESTADÍSTICOS Y EPIDEMIOLÓGICOS APLICADOS A LOS TEMAS DE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2276280"/>
            <a:ext cx="3168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ueden orientar eficazmente a la interpretación correcta de los problemas de salud y la toma de decis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276720" y="1882800"/>
            <a:ext cx="58323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Arial"/>
              </a:rPr>
              <a:t>LOS CONOCIMIENTOS ESTADÍSTICOS Y EPIDEMIOLÓGICOS APLICADOS A LOS TEMAS DE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3640" y="1773000"/>
            <a:ext cx="388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Estos se incorporan en la planificación de políticas, Planes y Programas para la salud, con análisis de las situaciones e identificación de las causas de los problemas Sanitarios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108000" y="1816200"/>
            <a:ext cx="53276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stión Sanitaria: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La creciente importancia de los procesos en la composición del valor de la producción de bienes y servici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ha ido convirtiendo a la evaluación en una prioridad dentro de la Política Sani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3"/>
          <p:cNvGrpSpPr/>
          <p:nvPr/>
        </p:nvGrpSpPr>
        <p:grpSpPr>
          <a:xfrm>
            <a:off x="5011560" y="1857240"/>
            <a:ext cx="3736800" cy="3587760"/>
            <a:chOff x="5011560" y="1857240"/>
            <a:chExt cx="3736800" cy="3587760"/>
          </a:xfrm>
        </p:grpSpPr>
        <p:pic>
          <p:nvPicPr>
            <p:cNvPr id="72" name="Picture 5" descr="MCj02317240000[1]"/>
            <p:cNvPicPr/>
            <p:nvPr/>
          </p:nvPicPr>
          <p:blipFill>
            <a:blip r:embed="rId1"/>
            <a:stretch/>
          </p:blipFill>
          <p:spPr>
            <a:xfrm>
              <a:off x="5154120" y="1857240"/>
              <a:ext cx="20844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MCj01981930000[1]"/>
            <p:cNvPicPr/>
            <p:nvPr/>
          </p:nvPicPr>
          <p:blipFill>
            <a:blip r:embed="rId2"/>
            <a:stretch/>
          </p:blipFill>
          <p:spPr>
            <a:xfrm>
              <a:off x="6954480" y="3370320"/>
              <a:ext cx="1793880" cy="19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7" descr="MCj02868640000[1]"/>
            <p:cNvPicPr/>
            <p:nvPr/>
          </p:nvPicPr>
          <p:blipFill>
            <a:blip r:embed="rId3"/>
            <a:stretch/>
          </p:blipFill>
          <p:spPr>
            <a:xfrm>
              <a:off x="5011560" y="3370320"/>
              <a:ext cx="1981080" cy="20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2" descr="MCj02871070000[1]"/>
            <p:cNvPicPr/>
            <p:nvPr/>
          </p:nvPicPr>
          <p:blipFill>
            <a:blip r:embed="rId4"/>
            <a:stretch/>
          </p:blipFill>
          <p:spPr>
            <a:xfrm>
              <a:off x="7314840" y="2073240"/>
              <a:ext cx="133992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4:00:37Z</dcterms:created>
  <dc:creator>echiotti</dc:creator>
  <dc:description/>
  <dc:language>en-US</dc:language>
  <cp:lastModifiedBy>WILLIAM RICHARD ANCHIRAICO AGUDO</cp:lastModifiedBy>
  <dcterms:modified xsi:type="dcterms:W3CDTF">2009-12-01T21:57:52Z</dcterms:modified>
  <cp:revision>74</cp:revision>
  <dc:subject/>
  <dc:title>LAS ESTADÍSTICAS COMO HERRAMIENTA PARA LA GESTION SANITARIA</dc:title>
</cp:coreProperties>
</file>