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png" ContentType="image/png"/>
  <Override PartName="/ppt/media/image1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A981-BC0C-46A7-A052-37832B373C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842A-E0D0-4854-AA1D-82625D3B06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38160" y="6476760"/>
            <a:ext cx="9067680" cy="383040"/>
            <a:chOff x="38160" y="6476760"/>
            <a:chExt cx="9067680" cy="383040"/>
          </a:xfrm>
        </p:grpSpPr>
        <p:pic>
          <p:nvPicPr>
            <p:cNvPr id="1" name="Picture 9" descr="logo_edelnor"/>
            <p:cNvPicPr/>
            <p:nvPr/>
          </p:nvPicPr>
          <p:blipFill>
            <a:blip r:embed="rId2"/>
            <a:stretch/>
          </p:blipFill>
          <p:spPr>
            <a:xfrm flipH="1" rot="10800000">
              <a:off x="8153280" y="6476760"/>
              <a:ext cx="952560" cy="33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Group 12"/>
            <p:cNvGrpSpPr/>
            <p:nvPr/>
          </p:nvGrpSpPr>
          <p:grpSpPr>
            <a:xfrm>
              <a:off x="38160" y="6477120"/>
              <a:ext cx="7505640" cy="382680"/>
              <a:chOff x="38160" y="6477120"/>
              <a:chExt cx="7505640" cy="382680"/>
            </a:xfrm>
          </p:grpSpPr>
          <p:pic>
            <p:nvPicPr>
              <p:cNvPr id="3" name="Picture 10" descr="secomat"/>
              <p:cNvPicPr/>
              <p:nvPr/>
            </p:nvPicPr>
            <p:blipFill>
              <a:blip r:embed="rId3"/>
              <a:stretch/>
            </p:blipFill>
            <p:spPr>
              <a:xfrm>
                <a:off x="38160" y="6477120"/>
                <a:ext cx="723960" cy="35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Text Box 11"/>
              <p:cNvSpPr/>
              <p:nvPr/>
            </p:nvSpPr>
            <p:spPr>
              <a:xfrm>
                <a:off x="762120" y="6613560"/>
                <a:ext cx="6781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5782"/>
                    </a:solidFill>
                    <a:latin typeface="Arial"/>
                  </a:rPr>
                  <a:t>Servicio de Consultoría Matemática - UNMS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" name="Picture 19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495680" y="152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cripción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0880" y="1219320"/>
            <a:ext cx="8153640" cy="307080"/>
          </a:xfrm>
          <a:prstGeom prst="rect">
            <a:avLst/>
          </a:prstGeom>
          <a:solidFill>
            <a:srgbClr val="e3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14132"/>
                </a:solidFill>
                <a:latin typeface="Arial"/>
                <a:ea typeface="Times New Roman"/>
              </a:rPr>
              <a:t>La variable de interés ha sido observada de acuerdo con los siguientes grupos o tipos de lámparas</a:t>
            </a:r>
            <a:r>
              <a:rPr b="0" lang="es-ES_tradnl" sz="1400" spc="-1" strike="noStrike">
                <a:solidFill>
                  <a:srgbClr val="314132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5" descr=""/>
          <p:cNvPicPr/>
          <p:nvPr/>
        </p:nvPicPr>
        <p:blipFill>
          <a:blip r:embed="rId1"/>
          <a:stretch/>
        </p:blipFill>
        <p:spPr>
          <a:xfrm>
            <a:off x="1054080" y="2135160"/>
            <a:ext cx="7404120" cy="4037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"/>
          <p:cNvPicPr/>
          <p:nvPr/>
        </p:nvPicPr>
        <p:blipFill>
          <a:blip r:embed="rId1"/>
          <a:stretch/>
        </p:blipFill>
        <p:spPr>
          <a:xfrm>
            <a:off x="2050920" y="3197160"/>
            <a:ext cx="5042160" cy="469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952880" y="763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álisis Exploratorio de la variable 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1"/>
          <a:stretch/>
        </p:blipFill>
        <p:spPr>
          <a:xfrm>
            <a:off x="1000080" y="911160"/>
            <a:ext cx="7305840" cy="4880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304920" y="5883120"/>
            <a:ext cx="8686800" cy="520200"/>
          </a:xfrm>
          <a:prstGeom prst="rect">
            <a:avLst/>
          </a:prstGeom>
          <a:solidFill>
            <a:srgbClr val="f3f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14132"/>
                </a:solidFill>
                <a:latin typeface="Arial"/>
                <a:ea typeface="Times New Roman"/>
              </a:rPr>
              <a:t>Se puede observar que en cada uno de los diferentes tipos de lámparas hay un porcentaje considerable de valores </a:t>
            </a:r>
            <a:r>
              <a:rPr b="1" lang="es-ES" sz="1400" spc="-1" strike="noStrike">
                <a:solidFill>
                  <a:srgbClr val="314132"/>
                </a:solidFill>
                <a:latin typeface="Arial"/>
                <a:ea typeface="Times New Roman"/>
              </a:rPr>
              <a:t>outliers</a:t>
            </a:r>
            <a:r>
              <a:rPr b="0" lang="es-ES" sz="1400" spc="-1" strike="noStrike">
                <a:solidFill>
                  <a:srgbClr val="314132"/>
                </a:solidFill>
                <a:latin typeface="Arial"/>
                <a:ea typeface="Times New Roman"/>
              </a:rPr>
              <a:t> que distorsionarán el tipo de distribución a ajustar</a:t>
            </a:r>
            <a:r>
              <a:rPr b="0" lang="es-ES_tradnl" sz="1400" spc="-1" strike="noStrike">
                <a:solidFill>
                  <a:srgbClr val="314132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2"/>
          <p:cNvSpPr/>
          <p:nvPr/>
        </p:nvSpPr>
        <p:spPr>
          <a:xfrm>
            <a:off x="533520" y="14479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76a0"/>
                </a:solidFill>
                <a:latin typeface="Arial"/>
                <a:ea typeface="Times New Roman"/>
              </a:rPr>
              <a:t>Número de datos OUTLIERS de acuerdo al Tipo de Lámpara</a:t>
            </a:r>
            <a:r>
              <a:rPr b="1" lang="es-ES" sz="2200" spc="-1" strike="noStrike">
                <a:solidFill>
                  <a:srgbClr val="007098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609480" y="53020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6a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76a0"/>
                </a:solidFill>
                <a:latin typeface="Arial"/>
                <a:ea typeface="Times New Roman"/>
              </a:rPr>
              <a:t>* Tiempo de funcionamiento menor al punto de corte infer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1"/>
          <a:stretch/>
        </p:blipFill>
        <p:spPr>
          <a:xfrm>
            <a:off x="0" y="2362320"/>
            <a:ext cx="9299520" cy="2784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"/>
          <p:cNvSpPr/>
          <p:nvPr/>
        </p:nvSpPr>
        <p:spPr>
          <a:xfrm>
            <a:off x="4952880" y="763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álisis Exploratorio de la variable 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457200" y="2327400"/>
            <a:ext cx="8286840" cy="300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28600" y="158436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Número de Lámparas reemplazadas según el Año de Inter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09480" y="53020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6a0"/>
                </a:solidFill>
                <a:latin typeface="Arial"/>
                <a:ea typeface="Arial"/>
              </a:rPr>
              <a:t>* En comparación con su fecha de 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952880" y="763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álisis Exploratorio de la variable 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5"/>
          <p:cNvSpPr/>
          <p:nvPr/>
        </p:nvSpPr>
        <p:spPr>
          <a:xfrm>
            <a:off x="228600" y="127944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Número de Lámparas reemplazadas según el Año de Inter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3"/>
          <p:cNvSpPr/>
          <p:nvPr/>
        </p:nvSpPr>
        <p:spPr>
          <a:xfrm>
            <a:off x="4952880" y="763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álisis Exploratorio de la variable 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4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689960" cy="3632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5" descr=""/>
          <p:cNvPicPr/>
          <p:nvPr/>
        </p:nvPicPr>
        <p:blipFill>
          <a:blip r:embed="rId2"/>
          <a:stretch/>
        </p:blipFill>
        <p:spPr>
          <a:xfrm>
            <a:off x="368280" y="6083280"/>
            <a:ext cx="9232920" cy="31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9"/>
          <p:cNvSpPr/>
          <p:nvPr/>
        </p:nvSpPr>
        <p:spPr>
          <a:xfrm>
            <a:off x="205740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juste de la distribución: 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-228600" y="1066680"/>
            <a:ext cx="9601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Arial"/>
              </a:rPr>
              <a:t>Gráfico de probabilidad de contraste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Arial"/>
              </a:rPr>
              <a:t> 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Arial"/>
              </a:rPr>
              <a:t>con distribución Weibull 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por 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tipo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 de 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lámpa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990720" y="1625760"/>
            <a:ext cx="7162560" cy="4775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05740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juste de la distribución: 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-152280" y="1066680"/>
            <a:ext cx="9601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Arial"/>
              </a:rPr>
              <a:t>Gráfico de probabilidad de contraste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Arial"/>
              </a:rPr>
              <a:t> 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Arial"/>
              </a:rPr>
              <a:t>con distribución Weibull 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por 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tipo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 de 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lámpa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4775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205740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juste de la distribución: 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-76320" y="1066680"/>
            <a:ext cx="9601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Arial"/>
              </a:rPr>
              <a:t>Gráfico de probabilidad de contraste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Arial"/>
              </a:rPr>
              <a:t> 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Arial"/>
              </a:rPr>
              <a:t>con distribución Weibull 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por 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tipo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 de 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lámpa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4775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13372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juste de la distribución: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0" y="1066680"/>
            <a:ext cx="9601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Arial"/>
              </a:rPr>
              <a:t>Gráfico de probabilidad de contraste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Arial"/>
              </a:rPr>
              <a:t> 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Arial"/>
              </a:rPr>
              <a:t>con distribución Weibull 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por 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tipo</a:t>
            </a:r>
            <a:r>
              <a:rPr b="1" lang="es-ES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 de </a:t>
            </a:r>
            <a:r>
              <a:rPr b="1" lang="es-ES_tradnl" sz="1700" spc="-1" strike="noStrike">
                <a:solidFill>
                  <a:srgbClr val="0076a0"/>
                </a:solidFill>
                <a:latin typeface="Arial"/>
                <a:ea typeface="Times New Roman"/>
              </a:rPr>
              <a:t>lámpa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90720" y="1701720"/>
            <a:ext cx="7162560" cy="4775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7086600" y="152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75320" cy="252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60440" y="2765520"/>
            <a:ext cx="8378640" cy="2720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213372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ámetros estim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-152280" y="173664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Parámetros estimados de la Distribución Weibull por Tipo de Lám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213372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ámetros estim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-152280" y="160020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Tabla de Vida para el Tipo de Lámpara MERCURIO 125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0" y="2435400"/>
            <a:ext cx="9366120" cy="3736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213372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ámetros estim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-152280" y="173664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Porcentaje y Cantidad de Lámparas Defectuosas según </a:t>
            </a:r>
            <a:r>
              <a:rPr b="1" lang="es-ES_tradnl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T</a:t>
            </a:r>
            <a:r>
              <a:rPr b="1" lang="es-ES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304920" y="2527200"/>
            <a:ext cx="8537400" cy="311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13372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ámetros estim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-152280" y="137160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Porcentaje y Cantidad de Lámparas Defectuosas según </a:t>
            </a:r>
            <a:r>
              <a:rPr b="1" lang="es-ES_tradnl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T</a:t>
            </a:r>
            <a:r>
              <a:rPr b="1" lang="es-ES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914400" y="2120760"/>
            <a:ext cx="7623000" cy="4378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13372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ámetros estim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152280" y="137160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76a0"/>
                </a:solidFill>
                <a:latin typeface="Arial"/>
                <a:ea typeface="Times New Roman"/>
              </a:rPr>
              <a:t>Equivalente de Lámparas Defectuosas según Tipo de Lám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533520" y="2166840"/>
            <a:ext cx="8261280" cy="3902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1784520" y="3197160"/>
            <a:ext cx="5574960" cy="469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228600" y="1881360"/>
            <a:ext cx="8686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Arial"/>
              </a:rPr>
              <a:t>Existe un alto porcentaje de lámparas que fallan a muy corto plazo y que originan datos “outliers”. Estas fallas tempranas corresponden a un 14% para lámparas tipo H1, 12.7% para lámparas tipo S1, 7.7% para tipo S2 y 9.6% para tipo S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Arial"/>
              </a:rPr>
              <a:t>Para la determinación del porcentaje de lámparas apagadas del parque mediante distribución Weibull es necesario eliminar los “outliers” previa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Arial"/>
              </a:rPr>
              <a:t>El porcentaje de fallas para el tipo de lámparas  H1 es de 4.33%,  lo que equivale a una estimación de 101 posibles fallas para lámparas instaladas entre Enero del 2002 hasta Mayo del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Arial"/>
              </a:rPr>
              <a:t>El porcentaje de fallas para el tipo de lámparas  S1 es de 5.17% lo que equivale a una estimación de 124 posibles fallas para lámparas instaladas entre Enero del 2002 hasta Mayo del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13372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28600" y="2265480"/>
            <a:ext cx="86868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Arial"/>
              </a:rPr>
              <a:t>El porcentaje de fallas para el tipo de lámparas  S2 es de 2.69% lo que equivale a una estimación de 45 posibles fallas para lámparas instaladas entre Enero del 2002 hasta Mayo del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Arial"/>
              </a:rPr>
              <a:t>El porcentaje de fallas para el tipo de lámparas  S3 es de 2.31% lo que equivale a una estimación de 19 posibles fallas para lámparas instaladas entre Enero del 2002 hasta Mayo del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Arial"/>
              </a:rPr>
              <a:t>En General, el  porcentaje de fallas para el parque de Alumbrado Público es de 4% lo que equivale a una estimación de 297 posibles fallas para lámparas instaladas entre Enero del 2002 hasta Mayo del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13372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28600" y="1727280"/>
            <a:ext cx="86868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Arial"/>
                <a:ea typeface="Arial"/>
              </a:rPr>
              <a:t>Los resultados obtenidos mediante este estudio en la medida que no corresponden a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Arial"/>
                <a:ea typeface="Arial"/>
              </a:rPr>
              <a:t>cohorte completa para el periodo de vida sugerido por el Fabricante (16,000 horas ) tienen 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Arial"/>
                <a:ea typeface="Arial"/>
              </a:rPr>
              <a:t>carácter de aproximación al 81.25%. en tal sentido se recomiend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Arial"/>
                <a:ea typeface="Arial"/>
              </a:rPr>
              <a:t>Completar una cohorte para determinar al 100% una estimación del porcentaje de fallas del parq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Arial"/>
                <a:ea typeface="Arial"/>
              </a:rPr>
              <a:t>Completar 3 o mas cohortes con la finalidad de elaborar un modelo mediante tablas de vida para estimaciones de tasas de fallas, tiempo medio de duración y  sobrevivencia máxi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001"/>
              </a:spcBef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99"/>
                </a:solidFill>
                <a:latin typeface="Arial"/>
                <a:ea typeface="Times New Roman"/>
              </a:rPr>
              <a:t>También es importante para lo que corresponde a la base de datos determinar con mayor rigurosidad la fecha exacta de instalación  y la fecha de observación ya que imprecisiones en este aspecto alteran significativamente los resultados.</a:t>
            </a:r>
            <a:r>
              <a:rPr b="0" lang="es-ES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133720" y="1522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"/>
          <p:cNvPicPr/>
          <p:nvPr/>
        </p:nvPicPr>
        <p:blipFill>
          <a:blip r:embed="rId1"/>
          <a:stretch/>
        </p:blipFill>
        <p:spPr>
          <a:xfrm>
            <a:off x="2050920" y="3197160"/>
            <a:ext cx="5042160" cy="469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086600" y="152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85800" y="2057400"/>
            <a:ext cx="78487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6699"/>
                </a:solidFill>
                <a:latin typeface="Arial"/>
              </a:rPr>
              <a:t>El presente estudio se inicia con la convocatoria para “Validar la Estimación de Lámparas Apagadas de </a:t>
            </a:r>
            <a:r>
              <a:rPr b="0" lang="es-ES_tradnl" sz="2200" spc="-1" strike="noStrike">
                <a:solidFill>
                  <a:srgbClr val="006699"/>
                </a:solidFill>
                <a:latin typeface="Arial"/>
              </a:rPr>
              <a:t>EDELNOR</a:t>
            </a:r>
            <a:r>
              <a:rPr b="0" lang="es-ES" sz="2200" spc="-1" strike="noStrike">
                <a:solidFill>
                  <a:srgbClr val="006699"/>
                </a:solidFill>
                <a:latin typeface="Arial"/>
              </a:rPr>
              <a:t>”.</a:t>
            </a:r>
            <a:r>
              <a:rPr b="0" lang="es-ES_tradnl" sz="2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6699"/>
                </a:solidFill>
                <a:latin typeface="Arial"/>
              </a:rPr>
              <a:t>Por razones metodológicas y por concordancia con el objetivo del estudio, se ha procedido a elaborar la “Estimación del Porcentaje de Lámparas Apagadas en el Parque de </a:t>
            </a:r>
            <a:r>
              <a:rPr b="0" lang="es-ES_tradnl" sz="2200" spc="-1" strike="noStrike">
                <a:solidFill>
                  <a:srgbClr val="006699"/>
                </a:solidFill>
                <a:latin typeface="Arial"/>
              </a:rPr>
              <a:t>EDELNOR</a:t>
            </a:r>
            <a:r>
              <a:rPr b="0" lang="es-ES" sz="2200" spc="-1" strike="noStrike">
                <a:solidFill>
                  <a:srgbClr val="006699"/>
                </a:solidFill>
                <a:latin typeface="Arial"/>
              </a:rPr>
              <a:t>”, lo cual se enmarca en el área de confiabilidad y tiempo de vida</a:t>
            </a:r>
            <a:r>
              <a:rPr b="0" lang="es-ES_tradnl" sz="22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2050920" y="3197160"/>
            <a:ext cx="5042160" cy="469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562720" y="152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cha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2050920" y="2816280"/>
            <a:ext cx="5042160" cy="123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562720" y="152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bjetivo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8600" y="1066680"/>
            <a:ext cx="281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7098"/>
                </a:solidFill>
                <a:latin typeface="Arial"/>
              </a:rPr>
              <a:t>Objetivo Gen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1" descr=""/>
          <p:cNvPicPr/>
          <p:nvPr/>
        </p:nvPicPr>
        <p:blipFill>
          <a:blip r:embed="rId1"/>
          <a:stretch/>
        </p:blipFill>
        <p:spPr>
          <a:xfrm>
            <a:off x="216000" y="1600200"/>
            <a:ext cx="8547120" cy="466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495680" y="152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cripción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184320" y="1406520"/>
            <a:ext cx="8775360" cy="405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495680" y="152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cripción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1"/>
          <a:stretch/>
        </p:blipFill>
        <p:spPr>
          <a:xfrm>
            <a:off x="216000" y="1079640"/>
            <a:ext cx="8699400" cy="524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21:16:55Z</dcterms:created>
  <dc:creator>RED TELEMATICA</dc:creator>
  <dc:description/>
  <dc:language>en-US</dc:language>
  <cp:lastModifiedBy>FATIMA</cp:lastModifiedBy>
  <dcterms:modified xsi:type="dcterms:W3CDTF">2009-12-03T19:28:23Z</dcterms:modified>
  <cp:revision>120</cp:revision>
  <dc:subject/>
  <dc:title>Presentación de PowerPoint</dc:title>
</cp:coreProperties>
</file>